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1788-2A8A-4FB4-B27D-9DB6039D6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42F8-FDB2-413A-BE92-6A6D109C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4F57-DB42-422D-9910-2A0D7DEEF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560D-DEC1-4622-8A6D-304F21D6F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8B83-4ADD-4217-8FC9-2F307741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6617-A4A2-4324-9B4F-89E2CC9F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ADAE-B7B1-479F-AD2D-9C3F0CCA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97B6-1585-4800-8FA7-318C8CD0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D66E-5022-42E8-BDFE-842CEC7F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7F34-B5A8-411F-9B53-8072671C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6927-E74A-4FB9-A83E-A84B1915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F6A7-BE6E-4574-91A8-8C6A3AE3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34CC-B0E8-4061-92AA-3E5139DF5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mbinatio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2362320"/>
            <a:ext cx="4572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43200" y="2209680"/>
            <a:ext cx="457200" cy="6098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3124080"/>
            <a:ext cx="45720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971800"/>
            <a:ext cx="609840" cy="7621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3886200"/>
            <a:ext cx="4572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3809880"/>
            <a:ext cx="914400" cy="762120"/>
          </a:xfrm>
          <a:prstGeom prst="pentagon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4724280"/>
            <a:ext cx="457200" cy="6098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4648320"/>
            <a:ext cx="609840" cy="7617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419720" y="2514600"/>
          <a:ext cx="4038480" cy="20700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ty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ty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otb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nn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g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leyb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ymna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43080" y="304920"/>
            <a:ext cx="8458200" cy="825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n experiment you have to choose two of the three shapes bel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52480" y="990720"/>
            <a:ext cx="4572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14800" y="990720"/>
            <a:ext cx="457200" cy="6094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838080"/>
            <a:ext cx="609480" cy="7621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1752480"/>
            <a:ext cx="1447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t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33920" y="1676520"/>
            <a:ext cx="12189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1752480"/>
            <a:ext cx="10666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2514600"/>
            <a:ext cx="685800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to draw all the possible choices that can be mad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3200400"/>
            <a:ext cx="1600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3200400"/>
            <a:ext cx="1295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3809880"/>
            <a:ext cx="45720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3809880"/>
            <a:ext cx="457200" cy="6098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4648320"/>
            <a:ext cx="4572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4572000"/>
            <a:ext cx="609480" cy="7621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5486400"/>
            <a:ext cx="457200" cy="6094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5410080"/>
            <a:ext cx="609480" cy="7621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3733920"/>
            <a:ext cx="29718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three possible combinations of sha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228600"/>
            <a:ext cx="845820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the same experiment is repeated but with 4 sha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914400"/>
            <a:ext cx="4572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914400"/>
            <a:ext cx="457200" cy="6094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62720" y="762120"/>
            <a:ext cx="609480" cy="7617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90720" y="1676520"/>
            <a:ext cx="14475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t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52680" y="1600200"/>
            <a:ext cx="12193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10080" y="1676520"/>
            <a:ext cx="10670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762120"/>
            <a:ext cx="914400" cy="761760"/>
          </a:xfrm>
          <a:prstGeom prst="pentagon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0" y="1600200"/>
            <a:ext cx="1523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tag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2362320"/>
            <a:ext cx="655308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to draw all the possible choices for four sha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3048120"/>
            <a:ext cx="12193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2971800"/>
            <a:ext cx="12189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3581280"/>
            <a:ext cx="45720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14600" y="3429000"/>
            <a:ext cx="457200" cy="6094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4343400"/>
            <a:ext cx="4572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8280" y="4191120"/>
            <a:ext cx="609840" cy="7617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5105520"/>
            <a:ext cx="4572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0" y="5029200"/>
            <a:ext cx="914400" cy="762120"/>
          </a:xfrm>
          <a:prstGeom prst="pentagon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5943600"/>
            <a:ext cx="457200" cy="6094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5867280"/>
            <a:ext cx="609840" cy="7621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43400" y="3048120"/>
            <a:ext cx="0" cy="3429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52880" y="2971800"/>
            <a:ext cx="12193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34320" y="2895480"/>
            <a:ext cx="12189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81480" y="3581280"/>
            <a:ext cx="457200" cy="6098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10280" y="3429000"/>
            <a:ext cx="914400" cy="762120"/>
          </a:xfrm>
          <a:prstGeom prst="pentagon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05520" y="4343400"/>
            <a:ext cx="609480" cy="7621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10280" y="4267080"/>
            <a:ext cx="914400" cy="762120"/>
          </a:xfrm>
          <a:prstGeom prst="pentagon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257800" y="5562720"/>
            <a:ext cx="28195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6 possible combin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0880" y="228600"/>
            <a:ext cx="853452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chool’s P.E department offers pupils a choice of two activities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838080"/>
            <a:ext cx="312444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ctivities must be chosen from this tabl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0" y="914400"/>
          <a:ext cx="4038480" cy="20700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ty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ty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otb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nn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g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leyb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ymna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380880" y="3124080"/>
            <a:ext cx="796320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down the different choices a pupil could mak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5360" y="3733920"/>
            <a:ext cx="1447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52760" y="3733920"/>
            <a:ext cx="1447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5360" y="4343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t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52760" y="4343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36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t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2908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g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5360" y="5257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t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52760" y="5257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ymna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9040" y="5638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5638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10160" y="3733920"/>
            <a:ext cx="1447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667560" y="3733920"/>
            <a:ext cx="1447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6019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019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g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6400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600" y="6400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ymna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4419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ley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629400" y="4419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4952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ley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05720" y="4876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g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5486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ley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54100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ymna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6095880"/>
            <a:ext cx="4267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nine possible cho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3657600"/>
            <a:ext cx="0" cy="3200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8:26:44Z</dcterms:created>
  <dc:creator>LT Scotland</dc:creator>
  <dc:description/>
  <dc:language>en-US</dc:language>
  <cp:lastModifiedBy>Computing Department</cp:lastModifiedBy>
  <dcterms:modified xsi:type="dcterms:W3CDTF">2004-08-10T11:55:14Z</dcterms:modified>
  <cp:revision>11</cp:revision>
  <dc:subject/>
  <dc:title>Access 3 Mathematics: Unit 1 Outcome 3 - Combinations.</dc:title>
</cp:coreProperties>
</file>